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0.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3.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F8D81-5FFD-48D9-B424-EC793D51702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be a family story about the value of a childhood experience, a high school reunion in which you reconnect with a long lost friend and finally understand something that happened in senior year that has always plagued you, a story about your life told from the point of view of an object...you name it. It can be anything. </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story about any concept, unit or idea from any area of the curriculum, from math to social studies. Of particular interest to us here is combining the immediacy and power of story with reflective practice in the pursuit of content area understanding.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the story form in education is exciting. But it is also problematic. One of the hallmarks of a good story is that you don't really reflect on it, at least not while you are listening to it. A good story is considered "good" precisely because you become engrossed in it and give yourself over to it. This begs the question, "What is the role of critical thinking in the pedagogy of storytell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n Kay describes the tension between storing and critical analysis succinctly by comparing theater and political rallies. While they appear very similar in terms of activity and production values, they make two very different demands upon the viewer as learner: theater demands we suspend our disbelief, while political rallies demand we critically analyze everything we se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allenge as educators who want to use digital storytelling across the curriculum is to harness the tremendously persuasive power of the story form through a process that imbues it with reflection, problem solving and reasoned thinking. That is, we must use the story form as a vehicle for learning and critical thinking, while not relinquishing its ability to engage and inspire. As students blend storytelling and analysis, they will have the best of both worlds. And the more that students become producers of stories, rather than just consumers, the more powerful a learning tool storytelling will become. Digital storytelling offers great potential in this are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hink about "story vs. report" in "either-or" terms -- most media projects are some Every story is going to be a particular blend of story form and documentary or report, so it's more effective to think about media in terms of where it falls on a continuu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alyzing media, it's effective to have students identify where particular media pieces lie on the continuum. When planning student media projects, it can be helpful for teachers to identify a point on the continuum that they want students to aim for. </a:t>
            </a:r>
            <a:endParaRPr b="0" lang="en-US" sz="10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lang="en-US" sz="1200" spc="-1" strike="noStrike">
                <a:solidFill>
                  <a:srgbClr val="000000"/>
                </a:solidFill>
                <a:latin typeface="Arial"/>
              </a:rPr>
              <a:t> As education, entertainment, art, technology and storytelling continue to merge, society will need the help of the Combining the story form and critical thinking is one of the most exciting and challenging frontiers in this merger, particularly in education and educational research. That frontier will be largely dominated by digital storytelling.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rucial for personal, academic and workplace success in the Digital Age and blend very well in a digital storytelling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ral and written storytelling, as well as storytelling using digital and art skills, are involved in the creation of digital stories, and how all these literacies and forms of storytelling can reinforce each other. This</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Jaws</a:t>
            </a:r>
            <a:r>
              <a:rPr b="0" lang="en-US" sz="1200" spc="-1" strike="noStrike">
                <a:solidFill>
                  <a:srgbClr val="000000"/>
                </a:solidFill>
                <a:latin typeface="Arial"/>
              </a:rPr>
              <a:t> theme can make </a:t>
            </a:r>
            <a:r>
              <a:rPr b="1" lang="en-US" sz="1200" spc="-1" strike="noStrike">
                <a:solidFill>
                  <a:srgbClr val="000000"/>
                </a:solidFill>
                <a:latin typeface="Arial"/>
              </a:rPr>
              <a:t>Bambi</a:t>
            </a:r>
            <a:r>
              <a:rPr b="0" lang="en-US" sz="1200" spc="-1" strike="noStrike">
                <a:solidFill>
                  <a:srgbClr val="000000"/>
                </a:solidFill>
                <a:latin typeface="Arial"/>
              </a:rPr>
              <a:t> appear evil... that's the power of music... use it wise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1143000" y="685800"/>
            <a:ext cx="4572000" cy="3429000"/>
          </a:xfrm>
          <a:prstGeom prst="rect">
            <a:avLst/>
          </a:prstGeom>
          <a:ln w="0">
            <a:noFill/>
          </a:ln>
        </p:spPr>
      </p:sp>
      <p:sp>
        <p:nvSpPr>
          <p:cNvPr id="22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Because it is how storytelling began and has endured for millennia. It has a history rich in timeless skills, perspective and sense of audience. Good teaching is often a matter of good storytelling. communication. 2Because it provides a skill set that can be used alone, as well as transferred to the digital storytelling format. Whether you're no tech, low tech or high tech, it informs your digital storytelling practic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Because video material of people telling oral stories will become increasingly important in digital storytelling. Video material has largely been excluded due to expense and complexity, but this is changing rapidly as digital video gets less expensive and easier to use. Video will present opportunities as well as challenges. The current de facto format for digital storytelling consists of still images with voice-over narration. This format is a relatively flexible, powerful, reflective approach to story creation. As video enters the digital storytelling arena we need to make sure we don't lose these qualiti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Because more and more students will tell stories with media accompaniment. Delivering a PowerPoint presentation is a good case in point. The average audience now expects a blend of media and oral presentation. Therefore, let's spend some of our educational energy focusing on oral presentation to help them be successfu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hile writing may not be the final product of a digital story, it is the students must take to create it. </a:t>
            </a:r>
            <a:br>
              <a:rPr sz="1200"/>
            </a:br>
            <a:br>
              <a:rPr sz="1200"/>
            </a:br>
            <a:r>
              <a:rPr b="0" lang="en-US" sz="1200" spc="-1" strike="noStrike">
                <a:solidFill>
                  <a:srgbClr val="000000"/>
                </a:solidFill>
                <a:latin typeface="Arial"/>
              </a:rPr>
              <a:t>Writing is the primary tool used to plan and create a digital story. The saying "if it ain't on the page then it ain't on the stage" is just as true for digital storytelling as it is for theater and movies. In fact, media production is a great way to engage kids in writing in an authentic way. Anecdotally, I have heard from teachers that students who don't want to write school reports are happy to write video plans and scripts because it is not perceived as "school work." </a:t>
            </a:r>
            <a:r>
              <a:rPr b="1" lang="en-US" sz="1200" spc="-1" strike="noStrike">
                <a:solidFill>
                  <a:srgbClr val="000000"/>
                </a:solidFill>
                <a:latin typeface="Arial"/>
              </a:rPr>
              <a:t>Bottom line:</a:t>
            </a:r>
            <a:r>
              <a:rPr b="0" lang="en-US" sz="1200" spc="-1" strike="noStrike">
                <a:solidFill>
                  <a:srgbClr val="000000"/>
                </a:solidFill>
                <a:latin typeface="Arial"/>
              </a:rPr>
              <a:t> No matter how sophisticated our technology becomes, the future of digital storytelling will involve writing and conventional forms of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writing skills that students employ in the process of creating their digital stories embrace many aspects of writing that are valued in school and the workplace. </a:t>
            </a:r>
            <a:br>
              <a:rPr sz="1200"/>
            </a:br>
            <a:br>
              <a:rPr sz="1200"/>
            </a:br>
            <a:r>
              <a:rPr b="0" lang="en-US" sz="1200" spc="-1" strike="noStrike">
                <a:solidFill>
                  <a:srgbClr val="000000"/>
                </a:solidFill>
                <a:latin typeface="Arial"/>
              </a:rPr>
              <a:t>Digital stories compel students to synthesize creative writing and personal reflection with clarity and organization. In the case of academic digital stories, writing is used to plan, script and create a story that demonstrates content area understandin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ecause in a world in which students are required to create websites, digital stories and other forms of new media as part of their school work,. Thanks to our struggle to use, the language of art is taking center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ecause digital stories are essentially multimedia art projects, shaped by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ecause no matter what technologies await us in the future, we will try to tell stories with them, and to do so we will need t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1143000" y="685800"/>
            <a:ext cx="4572000" cy="3429000"/>
          </a:xfrm>
          <a:prstGeom prst="rect">
            <a:avLst/>
          </a:prstGeom>
          <a:ln w="0">
            <a:noFill/>
          </a:ln>
        </p:spPr>
      </p:sp>
      <p:sp>
        <p:nvSpPr>
          <p:cNvPr id="2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oal in digital literacy is to use technology "effectively, creatively and wisely." That is, we want our students to master technological skills, to use technology as an imagination amplifier, and to see and evaluate technology and its impacts within the larger context of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dom we want our students to cultivate is both theoretical and practical. We want them to see and understand the persuasive power of technology and media, especially the power that flies beneath most people's radars. And there is no better way to "pull back the curtain and expose the wizard of technology OZ" than to have students create their own media. This is typically the domain of "media literac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literacy can be defined simply as "the ability to recognize, evaluate and apply the means of media persuasion." Digital storytelling provides rich "teachable moments" in regards to helping students become media literate. I recommend you make media literacy an explicit goal of your digital storytelling and new media projects. In my opin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d a revelation many years ago in a digital storytelling class. As the technology became more powerful, some of my students' stories became weaker. What I discovered was that some of my students were focusing on the power of the technology rather than the power of their stories - "gratuitous technologizing," I called it. That compelled me to hire an oral storyteller to work with my digital storytelling students before we added the technology to the storytelling process. The results in my classroom from using oral storytelling as a form of pre-production was transformational. Everyone's work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this workshop we learn the fundamentals of storytelling first, then focus on how to use technology to support the stories you want to tell in personal, engaging ways. Having a grasp of traditional storytelling will not only enrich your digital storytelling, but it will also allow you to use storytelling in your classroom whether your classroom is high tech, low tech or no te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B30B0A-2FD8-4341-A590-EA54B3BD054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2242B9-C685-4CC5-9C88-739280D3A0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63A5A5-3F84-49FD-A388-9442E117127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5FAA16-6CF6-46C8-9DCB-6F542A31F1C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FD001B-40C3-442B-B992-C8B548735F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D66FA0-6068-4104-8645-0687C5F7A80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F3BD8F-4008-4ABF-A5B8-2280D4A644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51946D-ABEC-41E3-A9A5-60E8F87036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BC44C3-E631-4386-B0A8-D3B109A5B9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0D45C9-E6E7-4044-BEB2-EA8C667C50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DA56E2-6F23-4F05-BB88-B342DE1BDD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8DD451A-37FB-463E-9578-EEC88E108F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65F5BC-B249-495D-A05E-E3F4AC9438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F4A46D-2A83-41FD-B3DD-3C8145D048F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BEF544-68AF-4DBE-A5C8-642BF2B206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88693D-4EF3-43EB-8C54-08226485D5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315F607-55B7-4C76-81EE-ED56DCF75B2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3588D5-C607-4323-B181-F1A493664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1E27A7-655C-495A-8C9C-6A1A937DC0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1FA41C-E9F2-4C66-86B1-6B28A3BE37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58138A-EEA3-4D4B-82B2-11F2C17ABB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ADEAD5-6575-4F8B-AE4A-F5095A07D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764D8D-9300-4375-9B9D-D38FDE566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BAA002-1022-4508-9296-B53973B280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A4A29-A241-4D4F-890B-AD96342E4066}"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FD7D85-2435-4326-88BA-1F04E30CDE42}"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Q7kKJNYIdvM" TargetMode="External"/><Relationship Id="rId2" Type="http://schemas.openxmlformats.org/officeDocument/2006/relationships/hyperlink" Target="http://www.youtube.com/watch?v=Q7kKJNYIdvM" TargetMode="Externa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teachertube.com/view_video.php?viewkey=499e50248a3a78f7acfc" TargetMode="External"/><Relationship Id="rId2" Type="http://schemas.openxmlformats.org/officeDocument/2006/relationships/slideLayout" Target="../slideLayouts/slideLayout3.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jumpcut.com/explore/?type=groups&amp;sort=cr_dt&amp;subtype=contest&amp;viewtype=thumb&amp;pcount=1" TargetMode="External"/><Relationship Id="rId2" Type="http://schemas.openxmlformats.org/officeDocument/2006/relationships/hyperlink" Target="http://www.jumpcut.com/explore/?type=groups&amp;sort=cr_dt&amp;subtype=contest&amp;viewtype=thumb&amp;pcount=1" TargetMode="External"/><Relationship Id="rId3" Type="http://schemas.openxmlformats.org/officeDocument/2006/relationships/slideLayout" Target="../slideLayouts/slideLayout3.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gital Storytelling</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Dyan’s</a:t>
            </a:r>
            <a:r>
              <a:rPr b="0" lang="en-US" sz="2800" spc="-1" strike="noStrike" u="sng">
                <a:solidFill>
                  <a:srgbClr val="00b200"/>
                </a:solidFill>
                <a:uFillTx/>
                <a:latin typeface="Comic Sans MS"/>
                <a:hlinkClick r:id="rId2"/>
              </a:rPr>
              <a:t> Couch</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tub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gital video is becoming the media of choic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r students are comfortable with it.  Remember, they are natives, we are immigrant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7"/>
                                        </p:tgtEl>
                                        <p:attrNameLst>
                                          <p:attrName>style.visibility</p:attrName>
                                        </p:attrNameLst>
                                      </p:cBhvr>
                                      <p:to>
                                        <p:strVal val="visible"/>
                                      </p:to>
                                    </p:set>
                                    <p:animEffect filter="fade" transition="in">
                                      <p:cBhvr additive="repl">
                                        <p:cTn id="7" dur="2000"/>
                                        <p:tgtEl>
                                          <p:spTgt spid="157"/>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8">
                                            <p:txEl>
                                              <p:pRg st="0" end="0"/>
                                            </p:txEl>
                                          </p:spTgt>
                                        </p:tgtEl>
                                        <p:attrNameLst>
                                          <p:attrName>style.visibility</p:attrName>
                                        </p:attrNameLst>
                                      </p:cBhvr>
                                      <p:to>
                                        <p:strVal val="visible"/>
                                      </p:to>
                                    </p:set>
                                    <p:animEffect filter="fade" transition="in">
                                      <p:cBhvr additive="repl">
                                        <p:cTn id="12" dur="2000"/>
                                        <p:tgtEl>
                                          <p:spTgt spid="158">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58">
                                            <p:txEl>
                                              <p:pRg st="1" end="1"/>
                                            </p:txEl>
                                          </p:spTgt>
                                        </p:tgtEl>
                                        <p:attrNameLst>
                                          <p:attrName>style.visibility</p:attrName>
                                        </p:attrNameLst>
                                      </p:cBhvr>
                                      <p:to>
                                        <p:strVal val="visible"/>
                                      </p:to>
                                    </p:set>
                                    <p:animEffect filter="fade" transition="in">
                                      <p:cBhvr additive="repl">
                                        <p:cTn id="17" dur="2000"/>
                                        <p:tgtEl>
                                          <p:spTgt spid="158">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2" dur="2000"/>
                                        <p:tgtEl>
                                          <p:spTgt spid="158">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58">
                                            <p:txEl>
                                              <p:pRg st="4" end="4"/>
                                            </p:txEl>
                                          </p:spTgt>
                                        </p:tgtEl>
                                        <p:attrNameLst>
                                          <p:attrName>style.visibility</p:attrName>
                                        </p:attrNameLst>
                                      </p:cBhvr>
                                      <p:to>
                                        <p:strVal val="visible"/>
                                      </p:to>
                                    </p:set>
                                    <p:animEffect filter="fade" transition="in">
                                      <p:cBhvr additive="repl">
                                        <p:cTn id="27" dur="2000"/>
                                        <p:tgtEl>
                                          <p:spTgt spid="158">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58">
                                            <p:txEl>
                                              <p:pRg st="5" end="5"/>
                                            </p:txEl>
                                          </p:spTgt>
                                        </p:tgtEl>
                                        <p:attrNameLst>
                                          <p:attrName>style.visibility</p:attrName>
                                        </p:attrNameLst>
                                      </p:cBhvr>
                                      <p:to>
                                        <p:strVal val="visible"/>
                                      </p:to>
                                    </p:set>
                                    <p:animEffect filter="fade" transition="in">
                                      <p:cBhvr additive="repl">
                                        <p:cTn id="32" dur="2000"/>
                                        <p:tgtEl>
                                          <p:spTgt spid="15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066680" y="456840"/>
            <a:ext cx="687096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personal story that involves a personal change or realization</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6" name="PlaceHolder 2"/>
          <p:cNvSpPr>
            <a:spLocks noGrp="1"/>
          </p:cNvSpPr>
          <p:nvPr>
            <p:ph/>
          </p:nvPr>
        </p:nvSpPr>
        <p:spPr>
          <a:xfrm>
            <a:off x="762120" y="2133720"/>
            <a:ext cx="7696080" cy="365760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Personal Reflection Stories</a:t>
            </a:r>
            <a:br>
              <a:rPr sz="1600"/>
            </a:br>
            <a:r>
              <a:rPr b="0" lang="en-US" sz="1600" spc="-1" strike="noStrike">
                <a:solidFill>
                  <a:srgbClr val="000000"/>
                </a:solidFill>
                <a:latin typeface="Comic Sans MS"/>
              </a:rPr>
              <a:t>Memorial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Events in our liv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Places in our liv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Our job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Recovery Stori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Love Stori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Discovery</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Short Storie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	</a:t>
            </a:r>
            <a:r>
              <a:rPr b="0" lang="en-US" sz="1600" spc="-1" strike="noStrike">
                <a:solidFill>
                  <a:srgbClr val="000000"/>
                </a:solidFill>
                <a:latin typeface="Comic Sans MS"/>
              </a:rPr>
              <a:t>Myths</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Sample</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My Mama</a:t>
            </a:r>
            <a:endParaRPr b="0" lang="en-US" sz="1600" spc="-1" strike="noStrike">
              <a:solidFill>
                <a:srgbClr val="000000"/>
              </a:solidFill>
              <a:latin typeface="Comic Sans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Almost Paradise</a:t>
            </a:r>
            <a:endParaRPr b="0" lang="en-US" sz="16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A Dog’s Tale</a:t>
            </a:r>
            <a:endParaRPr b="0" lang="en-US" sz="1400" spc="-1" strike="noStrike">
              <a:solidFill>
                <a:srgbClr val="000000"/>
              </a:solidFill>
              <a:latin typeface="Comic Sans MS"/>
            </a:endParaRPr>
          </a:p>
          <a:p>
            <a:pPr marL="343080" indent="-343080">
              <a:lnSpc>
                <a:spcPct val="80000"/>
              </a:lnSpc>
              <a:spcBef>
                <a:spcPts val="34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Fox Finds a Friend</a:t>
            </a: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n academic or "unit of instruction" story</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cience and math</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142640" y="1371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can you as a teacher use storytelling and digital media in content areas in your classroom? </a:t>
            </a:r>
            <a:endParaRPr b="0" lang="en-US" sz="4000" spc="-1" strike="noStrike">
              <a:solidFill>
                <a:srgbClr val="000000"/>
              </a:solidFill>
              <a:latin typeface="Comic Sans MS"/>
            </a:endParaRPr>
          </a:p>
        </p:txBody>
      </p:sp>
      <p:pic>
        <p:nvPicPr>
          <p:cNvPr id="180" name="" descr=""/>
          <p:cNvPicPr/>
          <p:nvPr/>
        </p:nvPicPr>
        <p:blipFill>
          <a:blip r:embed="rId1"/>
          <a:stretch/>
        </p:blipFill>
        <p:spPr>
          <a:xfrm>
            <a:off x="5867280" y="4438800"/>
            <a:ext cx="2934000" cy="2199960"/>
          </a:xfrm>
          <a:prstGeom prst="rect">
            <a:avLst/>
          </a:prstGeom>
          <a:ln w="0">
            <a:noFill/>
          </a:ln>
        </p:spPr>
      </p:pic>
      <p:sp>
        <p:nvSpPr>
          <p:cNvPr id="181" name=""/>
          <p:cNvSpPr/>
          <p:nvPr/>
        </p:nvSpPr>
        <p:spPr>
          <a:xfrm>
            <a:off x="1219320" y="2971800"/>
            <a:ext cx="7924680" cy="1373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graphie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ok report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to direction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restart="whenNotActive" nodeType="interactiveSeq" fill="hold">
                <p:stCondLst>
                  <p:cond evt="onClick">
                    <p:tgtEl>
                      <p:spTgt spid="180"/>
                    </p:tgtEl>
                  </p:cond>
                </p:stCondLst>
                <p:childTnLst>
                  <p:par>
                    <p:cTn id="35" fill="hold">
                      <p:stCondLst>
                        <p:cond evt="onClick">
                          <p:tgtEl>
                            <p:spTgt spid="180"/>
                          </p:tgtEl>
                        </p:cond>
                      </p:stCondLst>
                      <p:childTnLst>
                        <p:par>
                          <p:cTn id="36" fill="hold">
                            <p:stCondLst>
                              <p:cond delay="0"/>
                            </p:stCondLst>
                            <p:childTnLst>
                              <p:par>
                                <p:cTn id="37" nodeType="clickEffect" fill="hold" presetClass="mediacall" presetID="2">
                                  <p:stCondLst>
                                    <p:cond delay="0"/>
                                  </p:stCondLst>
                                  <p:childTnLst>
                                    <p:cmd type="call" cmd="togglePause">
                                      <p:cBhvr>
                                        <p:cTn id="38" dur="1" fill="hold"/>
                                        <p:tgtEl>
                                          <p:spTgt spid="1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13712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can you as a teacher use storytelling and digital media in content areas in your classroom? </a:t>
            </a:r>
            <a:endParaRPr b="0" lang="en-US" sz="4000" spc="-1" strike="noStrike">
              <a:solidFill>
                <a:srgbClr val="000000"/>
              </a:solidFill>
              <a:latin typeface="Comic Sans MS"/>
            </a:endParaRPr>
          </a:p>
        </p:txBody>
      </p:sp>
      <p:sp>
        <p:nvSpPr>
          <p:cNvPr id="183" name=""/>
          <p:cNvSpPr/>
          <p:nvPr/>
        </p:nvSpPr>
        <p:spPr>
          <a:xfrm>
            <a:off x="1219320" y="2971800"/>
            <a:ext cx="7924680" cy="18003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y Report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ok report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to directions</a:t>
            </a:r>
            <a:endParaRPr b="0" lang="en-US" sz="2800" spc="-1" strike="noStrike">
              <a:solidFill>
                <a:srgbClr val="000000"/>
              </a:solidFill>
              <a:latin typeface="Arial"/>
            </a:endParaRPr>
          </a:p>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graphies</a:t>
            </a:r>
            <a:endParaRPr b="0" lang="en-US" sz="2800" spc="-1" strike="noStrike">
              <a:solidFill>
                <a:srgbClr val="000000"/>
              </a:solidFill>
              <a:latin typeface="Arial"/>
            </a:endParaRPr>
          </a:p>
        </p:txBody>
      </p:sp>
      <p:pic>
        <p:nvPicPr>
          <p:cNvPr id="184" name="" descr=""/>
          <p:cNvPicPr/>
          <p:nvPr/>
        </p:nvPicPr>
        <p:blipFill>
          <a:blip r:embed="rId1"/>
          <a:stretch/>
        </p:blipFill>
        <p:spPr>
          <a:xfrm>
            <a:off x="6400800" y="4591080"/>
            <a:ext cx="2286000" cy="171432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restart="whenNotActive" nodeType="interactiveSeq" fill="hold">
                <p:stCondLst>
                  <p:cond evt="onClick">
                    <p:tgtEl>
                      <p:spTgt spid="184"/>
                    </p:tgtEl>
                  </p:cond>
                </p:stCondLst>
                <p:childTnLst>
                  <p:par>
                    <p:cTn id="41" fill="hold">
                      <p:stCondLst>
                        <p:cond evt="onClick">
                          <p:tgtEl>
                            <p:spTgt spid="184"/>
                          </p:tgtEl>
                        </p:cond>
                      </p:stCondLst>
                      <p:childTnLst>
                        <p:par>
                          <p:cTn id="42" fill="hold">
                            <p:stCondLst>
                              <p:cond delay="0"/>
                            </p:stCondLst>
                            <p:childTnLst>
                              <p:par>
                                <p:cTn id="43" nodeType="clickEffect" fill="hold" presetClass="mediacall" presetID="2">
                                  <p:stCondLst>
                                    <p:cond delay="0"/>
                                  </p:stCondLst>
                                  <p:childTnLst>
                                    <p:cmd type="call" cmd="togglePause">
                                      <p:cBhvr>
                                        <p:cTn id="44"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914040" y="68544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ories vs. reports - engagement vs. critical thinking </a:t>
            </a:r>
            <a:endParaRPr b="0" lang="en-US" sz="4000" spc="-1" strike="noStrike">
              <a:solidFill>
                <a:srgbClr val="000000"/>
              </a:solidFill>
              <a:latin typeface="Comic Sans MS"/>
            </a:endParaRPr>
          </a:p>
        </p:txBody>
      </p:sp>
      <p:sp>
        <p:nvSpPr>
          <p:cNvPr id="186" name="PlaceHolder 2"/>
          <p:cNvSpPr>
            <a:spLocks noGrp="1"/>
          </p:cNvSpPr>
          <p:nvPr>
            <p:ph/>
          </p:nvPr>
        </p:nvSpPr>
        <p:spPr>
          <a:xfrm>
            <a:off x="685800" y="25146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pirational stories + critical think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suasive power of the story form</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lection, problem solving and reasoned thinking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bination of story form and analytical repo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ersuasion</a:t>
            </a:r>
            <a:endParaRPr b="0" lang="en-US" sz="4400" spc="-1" strike="noStrike">
              <a:solidFill>
                <a:srgbClr val="000000"/>
              </a:solidFill>
              <a:latin typeface="Comic Sans MS"/>
            </a:endParaRPr>
          </a:p>
        </p:txBody>
      </p:sp>
      <p:sp>
        <p:nvSpPr>
          <p:cNvPr id="18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fontScale="99000"/>
          </a:bodyPr>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vertisements </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cribe/conclude</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conclude</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persuade</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are/contrast</a:t>
            </a:r>
            <a:endParaRPr b="0" lang="en-US" sz="3200" spc="-1" strike="noStrike">
              <a:solidFill>
                <a:srgbClr val="000000"/>
              </a:solidFill>
              <a:latin typeface="Comic Sans MS"/>
            </a:endParaRPr>
          </a:p>
          <a:p>
            <a:pPr marL="603360" indent="-60336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use/effect </a:t>
            </a:r>
            <a:br>
              <a:rPr sz="3200"/>
            </a:br>
            <a:r>
              <a:rPr b="1" lang="en-US" sz="3200" spc="-1" strike="noStrike">
                <a:solidFill>
                  <a:srgbClr val="000000"/>
                </a:solidFill>
                <a:latin typeface="Comic Sans MS"/>
              </a:rPr>
              <a:t>Road Taken for Peace</a:t>
            </a:r>
            <a:endParaRPr b="0" lang="en-US" sz="3200" spc="-1" strike="noStrike">
              <a:solidFill>
                <a:srgbClr val="000000"/>
              </a:solidFill>
              <a:latin typeface="Comic Sans MS"/>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142640" y="121896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at frontier will be largely dominated by digital storytelling. </a:t>
            </a:r>
            <a:br>
              <a:rPr sz="4000"/>
            </a:br>
            <a:endParaRPr b="0" lang="en-US" sz="4000" spc="-1" strike="noStrike">
              <a:solidFill>
                <a:srgbClr val="000000"/>
              </a:solidFill>
              <a:latin typeface="Comic Sans MS"/>
            </a:endParaRPr>
          </a:p>
        </p:txBody>
      </p:sp>
      <p:sp>
        <p:nvSpPr>
          <p:cNvPr id="190" name="PlaceHolder 2"/>
          <p:cNvSpPr>
            <a:spLocks noGrp="1"/>
          </p:cNvSpPr>
          <p:nvPr>
            <p:ph/>
          </p:nvPr>
        </p:nvSpPr>
        <p:spPr>
          <a:xfrm>
            <a:off x="762120" y="2971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eachers are more important than ev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 Elements</a:t>
            </a:r>
            <a:endParaRPr b="0" lang="en-US" sz="4400" spc="-1" strike="noStrike">
              <a:solidFill>
                <a:srgbClr val="000000"/>
              </a:solidFill>
              <a:latin typeface="Comic Sans MS"/>
            </a:endParaRPr>
          </a:p>
        </p:txBody>
      </p:sp>
      <p:sp>
        <p:nvSpPr>
          <p:cNvPr id="19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A Point) of view</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ories are told to make a poi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stories are person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first-pers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person voice is authoritative, seemingly neutra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p:nvPr>
        </p:nvSpPr>
        <p:spPr>
          <a:xfrm>
            <a:off x="457200" y="533160"/>
            <a:ext cx="8229600" cy="5592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Dramatic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just make a poin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 up a question in the beginnin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p:nvPr>
        </p:nvSpPr>
        <p:spPr>
          <a:xfrm>
            <a:off x="457200" y="457200"/>
            <a:ext cx="8229600" cy="5410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Emotional Cont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quires plain old-fashioned common sense and matur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oring emotional material is a personal decision. </a:t>
            </a:r>
            <a:endParaRPr b="0" lang="en-US" sz="32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 of Digital Storytelling</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mbining the long standing art of telling stories with any of a variety of available multimedia tools, including graphics, audio, video animation, and Web publish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combines </a:t>
            </a:r>
            <a:r>
              <a:rPr b="1" lang="en-US" sz="3200" spc="-1" strike="noStrike">
                <a:solidFill>
                  <a:srgbClr val="000000"/>
                </a:solidFill>
                <a:latin typeface="Comic Sans MS"/>
              </a:rPr>
              <a:t>Digital, Art, Oral and Written literacie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p:nvPr>
        </p:nvSpPr>
        <p:spPr>
          <a:xfrm>
            <a:off x="457200" y="762120"/>
            <a:ext cx="8229600" cy="53640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Gift of Voi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ur voice is a great gif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voice can show strength and weaknes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y not to read, but talk</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457200" y="456840"/>
            <a:ext cx="8229600" cy="52880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The Power of the Soundtr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od gener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irs emo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 careful with lyrical mus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trumental is bes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pyrigh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p:nvPr>
        </p:nvSpPr>
        <p:spPr>
          <a:xfrm>
            <a:off x="457200" y="609480"/>
            <a:ext cx="8229600" cy="551664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Be economic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go overboard on material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fectively illustrated with a small number of images and vide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p:nvPr>
        </p:nvSpPr>
        <p:spPr>
          <a:xfrm>
            <a:off x="533520" y="99072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Pac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ve along generally at an even pace,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rts and stops, pauses, and quickly spurted phras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685440"/>
            <a:ext cx="82296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ols</a:t>
            </a:r>
            <a:endParaRPr b="0" lang="en-US" sz="4400" spc="-1" strike="noStrike">
              <a:solidFill>
                <a:srgbClr val="000000"/>
              </a:solidFill>
              <a:latin typeface="Comic Sans MS"/>
            </a:endParaRPr>
          </a:p>
        </p:txBody>
      </p:sp>
      <p:sp>
        <p:nvSpPr>
          <p:cNvPr id="200" name="PlaceHolder 2"/>
          <p:cNvSpPr>
            <a:spLocks noGrp="1"/>
          </p:cNvSpPr>
          <p:nvPr>
            <p:ph/>
          </p:nvPr>
        </p:nvSpPr>
        <p:spPr>
          <a:xfrm>
            <a:off x="457200" y="233208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ebsites-Public Domai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ftwa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deo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r voi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is it a good tool for teachers?</a:t>
            </a:r>
            <a:endParaRPr b="0" lang="en-US" sz="4400" spc="-1" strike="noStrike">
              <a:solidFill>
                <a:srgbClr val="000000"/>
              </a:solidFill>
              <a:latin typeface="Comic Sans MS"/>
            </a:endParaRPr>
          </a:p>
        </p:txBody>
      </p:sp>
      <p:sp>
        <p:nvSpPr>
          <p:cNvPr id="20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eal to the diverse learning styles of the students by using Digital Storytelling as a presentation media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te interest, attention and motivation for the "digital generation" kids in our classrooms.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italize on the creative talents of your own students as they begin to research and tell stories of their own.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is it a good tool for students?</a:t>
            </a:r>
            <a:endParaRPr b="0" lang="en-US" sz="4400" spc="-1" strike="noStrike">
              <a:solidFill>
                <a:srgbClr val="000000"/>
              </a:solidFill>
              <a:latin typeface="Comic Sans MS"/>
            </a:endParaRPr>
          </a:p>
        </p:txBody>
      </p:sp>
      <p:sp>
        <p:nvSpPr>
          <p:cNvPr id="20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 to use the Internet to research rich, deep content while analyzing and synthesizing a wide range of content.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 communications skills by learning to ask questions, express opinions, construct narratives and write for an audience.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computer skills using software that combines a variety of multimedia  including: text, still images, audio and video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tting Started</a:t>
            </a:r>
            <a:endParaRPr b="0" lang="en-US" sz="4400" spc="-1" strike="noStrike">
              <a:solidFill>
                <a:srgbClr val="000000"/>
              </a:solidFill>
              <a:latin typeface="Comic Sans MS"/>
            </a:endParaRPr>
          </a:p>
        </p:txBody>
      </p:sp>
      <p:sp>
        <p:nvSpPr>
          <p:cNvPr id="20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eed to be a digital storytell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ware</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ware –PhotoStory Movie Maker Adobe Premiere Elements, Audacity</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Digital camera</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Voice record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Scann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rophone USB</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Comic Sans MS"/>
              </a:rPr>
              <a:t>Video camera</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amera</a:t>
            </a:r>
            <a:endParaRPr b="0" lang="en-US" sz="4400" spc="-1" strike="noStrike">
              <a:solidFill>
                <a:srgbClr val="000000"/>
              </a:solidFill>
              <a:latin typeface="Comic Sans MS"/>
            </a:endParaRPr>
          </a:p>
        </p:txBody>
      </p:sp>
      <p:sp>
        <p:nvSpPr>
          <p:cNvPr id="20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209" name="" descr=""/>
          <p:cNvPicPr/>
          <p:nvPr/>
        </p:nvPicPr>
        <p:blipFill>
          <a:blip r:embed="rId1"/>
          <a:stretch/>
        </p:blipFill>
        <p:spPr>
          <a:xfrm>
            <a:off x="0" y="324000"/>
            <a:ext cx="9144000" cy="6654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ideo Mistakes</a:t>
            </a:r>
            <a:endParaRPr b="0" lang="en-US" sz="4400" spc="-1" strike="noStrike">
              <a:solidFill>
                <a:srgbClr val="000000"/>
              </a:solidFill>
              <a:latin typeface="Comic Sans MS"/>
            </a:endParaRPr>
          </a:p>
        </p:txBody>
      </p:sp>
      <p:sp>
        <p:nvSpPr>
          <p:cNvPr id="211"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mon Video Shooting Mistakes from Robert Scoble </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gital, Art, Oral and Written literacies</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literacies rely on one anoth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roves literacy and expression in all area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wer of music in your digital stor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13"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omic Sans MS"/>
              </a:rPr>
              <a:t>A Christmas Gor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ttom line:</a:t>
            </a:r>
            <a:r>
              <a:rPr b="0" lang="en-US" sz="2800" spc="-1" strike="noStrike">
                <a:solidFill>
                  <a:srgbClr val="000000"/>
                </a:solidFill>
                <a:latin typeface="Comic Sans MS"/>
              </a:rPr>
              <a:t> Music manipulates and can overtake a story if over used or over played. Make sure your music supplements your story, and not the other way around. When it is the other way around, you have a music video.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Activity</a:t>
            </a:r>
            <a:endParaRPr b="0" lang="en-US" sz="4400" spc="-1" strike="noStrike">
              <a:solidFill>
                <a:srgbClr val="000000"/>
              </a:solidFill>
              <a:latin typeface="Comic Sans MS"/>
            </a:endParaRPr>
          </a:p>
        </p:txBody>
      </p:sp>
      <p:sp>
        <p:nvSpPr>
          <p:cNvPr id="215"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ve them do a quick write following each video about what kind of movie they think they are watching, what they think the story line might be and how they feel toward the young man in the movie. You need to play each movie to get the full effect. They are only 30 seconds long. I suggest you play the movie without any sound at all before playing all three sequences with sound.</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2</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3</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Few Words about Copyright</a:t>
            </a:r>
            <a:endParaRPr b="0" lang="en-US" sz="4400" spc="-1" strike="noStrike">
              <a:solidFill>
                <a:srgbClr val="000000"/>
              </a:solidFill>
              <a:latin typeface="Comic Sans MS"/>
            </a:endParaRPr>
          </a:p>
        </p:txBody>
      </p:sp>
      <p:sp>
        <p:nvSpPr>
          <p:cNvPr id="2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mon Sense Copyright -respect for others' property</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itation</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Permission</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609480">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Compensation</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A Few Words about Copyright</a:t>
            </a:r>
            <a:endParaRPr b="0" lang="en-US" sz="4400" spc="-1" strike="noStrike">
              <a:solidFill>
                <a:srgbClr val="000000"/>
              </a:solidFill>
              <a:latin typeface="Comic Sans MS"/>
            </a:endParaRPr>
          </a:p>
        </p:txBody>
      </p:sp>
      <p:sp>
        <p:nvSpPr>
          <p:cNvPr id="219"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f your stories are published on the Web, list a disclaimer.  Work done for educational use is under the fair use protection of existing copyright law.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oral storytelling important in digital storytell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matter how high tech we become, telling stories to each other orally will endure as one of our primary and most powerful forms of communicatio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will always be an important skill to have in the workplace, in our communities and in our schools.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writing important in digital storytelling?</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athwa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art important in digital storytell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art is becoming the next literacy, or 4th 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Must teach multimedia effective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Need understand design - the grammar of a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digital literacy importan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igital literacy</a:t>
            </a:r>
            <a:r>
              <a:rPr b="0" lang="en-US" sz="3200" spc="-1" strike="noStrike">
                <a:solidFill>
                  <a:srgbClr val="000000"/>
                </a:solidFill>
                <a:latin typeface="Comic Sans MS"/>
              </a:rPr>
              <a:t> = using technology effectively, creatively and wisely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technology as an imagination amplifi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b200"/>
                </a:solidFill>
                <a:uFillTx/>
                <a:latin typeface="Comic Sans MS"/>
                <a:hlinkClick r:id="rId1"/>
              </a:rPr>
              <a:t>www.teachertube.com</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edia literac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Media literacy </a:t>
            </a:r>
            <a:r>
              <a:rPr b="0" lang="en-US" sz="2800" spc="-1" strike="noStrike" u="sng">
                <a:solidFill>
                  <a:srgbClr val="000000"/>
                </a:solidFill>
                <a:uFillTx/>
                <a:latin typeface="Comic Sans MS"/>
              </a:rPr>
              <a:t>=</a:t>
            </a:r>
            <a:r>
              <a:rPr b="0" lang="en-US" sz="2800" spc="-1" strike="noStrike">
                <a:solidFill>
                  <a:srgbClr val="000000"/>
                </a:solidFill>
                <a:latin typeface="Comic Sans MS"/>
              </a:rPr>
              <a:t> Recognizing, evaluating and applying the methods of media persuasion.</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 literacy an explicit goal of your digital storytelling </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cannot understand how media persuades until they become media persuaders themselves</a:t>
            </a:r>
            <a:endParaRPr b="0" lang="en-US" sz="2800" spc="-1" strike="noStrike">
              <a:solidFill>
                <a:srgbClr val="000000"/>
              </a:solidFill>
              <a:latin typeface="Comic Sans MS"/>
            </a:endParaRPr>
          </a:p>
          <a:p>
            <a:pPr marL="343080" indent="-343080">
              <a:lnSpc>
                <a:spcPct val="8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2"/>
              </a:rPr>
              <a:t>example</a:t>
            </a:r>
            <a:endParaRPr b="0" lang="en-US" sz="2800" spc="-1" strike="noStrike">
              <a:solidFill>
                <a:srgbClr val="000000"/>
              </a:solidFill>
              <a:latin typeface="Comic Sans MS"/>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fferent kinds of stories and storytelling </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Committing a bad story to digital media, is like giving a bad guitar player a bigger amplifier”  Jason Oh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2:01:13Z</dcterms:created>
  <dc:creator>Wauwatosa School District</dc:creator>
  <dc:description/>
  <dc:language>en-US</dc:language>
  <cp:lastModifiedBy>Wauwatosa School District</cp:lastModifiedBy>
  <dcterms:modified xsi:type="dcterms:W3CDTF">2008-01-08T20:50:58Z</dcterms:modified>
  <cp:revision>3</cp:revision>
  <dc:subject/>
  <dc:title>Digital Storytelling</dc:title>
</cp:coreProperties>
</file>